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A45F-9D94-4707-813A-99D9482F0F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AAAD-C778-48ED-B960-B53AC0DBD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D6FA-8EE5-4927-B2F1-FB83AB5E7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346E-6E4A-4878-97A8-4CF59BCB4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652D-71DF-4D10-9381-2FFB5A139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0C39-EBB3-49F8-97CA-572C14D84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A0713-D984-4BDC-AC7A-40AC0194C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8EC2E-BFFF-4260-B6CB-8234F78F6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86A-A304-4A07-B455-DEA9EE6FFB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464-F5B0-48FA-A727-D60058EF72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B2B1-904A-4926-8EAB-63EB771ED6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4F9-6420-4A06-89B8-5BBE6038D2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CBE-C831-4B81-B77A-BEB5CB7CB6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B40-DA43-4D5B-A5C7-13BE959AC2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FC1-62A4-4353-B0F5-E34AC82B44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F09D-A8F6-458A-9E2B-E3F1C2BB1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76F-F5EC-4DE4-B0F2-6546533034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FC3-D86B-4635-B2B6-C9E6294B92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8C7-380F-47ED-B788-488B8A679A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7ED-FEF2-44D4-BE36-8ED68AF359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184-81DC-4AB9-8F70-D7DBE4C81C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04E2-7A26-43A9-AD5D-AD93512C8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FE1CF-F96F-4C55-AA05-F5B0A2C3D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33920-F8BC-4156-A23C-E0E797F02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1FE3D-9538-49A8-B1A8-5EE2BD264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5B1E-8B07-499E-8579-15D86FBBB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B2734-0A7F-449F-AEFB-8135DAEC0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27D0-7B73-45F6-B44D-3DC86C1E5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16908" r="0" b="0"/>
          <a:stretch/>
        </p:blipFill>
        <p:spPr>
          <a:xfrm>
            <a:off x="0" y="0"/>
            <a:ext cx="9140760" cy="609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664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6120" indent="-33768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9560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3429000" y="6248520"/>
            <a:ext cx="5715000" cy="457200"/>
            <a:chOff x="3429000" y="6248520"/>
            <a:chExt cx="5715000" cy="457200"/>
          </a:xfrm>
        </p:grpSpPr>
        <p:sp>
          <p:nvSpPr>
            <p:cNvPr id="3" name="Line 5"/>
            <p:cNvSpPr/>
            <p:nvPr/>
          </p:nvSpPr>
          <p:spPr>
            <a:xfrm>
              <a:off x="4024440" y="6307200"/>
              <a:ext cx="5119560" cy="0"/>
            </a:xfrm>
            <a:prstGeom prst="line">
              <a:avLst/>
            </a:prstGeom>
            <a:ln w="76320">
              <a:solidFill>
                <a:srgbClr val="ca5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429000" y="6248520"/>
              <a:ext cx="5616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© 2009 South-Western, Cengage Lear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3657600" y="624852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400" spc="-1" strike="noStrike">
                  <a:solidFill>
                    <a:srgbClr val="3f7ebd"/>
                  </a:solidFill>
                  <a:latin typeface="Ari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685800" y="61718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800" spc="-1" strike="noStrike">
                <a:solidFill>
                  <a:srgbClr val="b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629604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0" y="1752480"/>
            <a:ext cx="4570560" cy="1098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457840" y="-3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8D26-6E70-49C1-A90A-8F058B9F5E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2314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3429000" y="6248520"/>
            <a:ext cx="5715000" cy="457200"/>
            <a:chOff x="3429000" y="6248520"/>
            <a:chExt cx="5715000" cy="457200"/>
          </a:xfrm>
        </p:grpSpPr>
        <p:sp>
          <p:nvSpPr>
            <p:cNvPr id="52" name="Line 7"/>
            <p:cNvSpPr/>
            <p:nvPr/>
          </p:nvSpPr>
          <p:spPr>
            <a:xfrm>
              <a:off x="4024440" y="6307200"/>
              <a:ext cx="5119560" cy="0"/>
            </a:xfrm>
            <a:prstGeom prst="line">
              <a:avLst/>
            </a:prstGeom>
            <a:ln w="76320">
              <a:solidFill>
                <a:srgbClr val="ca5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3429000" y="6248520"/>
              <a:ext cx="5616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© 2009 South-Western, Cengage Lear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3657600" y="624852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400" spc="-1" strike="noStrike">
                  <a:solidFill>
                    <a:srgbClr val="3f7ebd"/>
                  </a:solidFill>
                  <a:latin typeface="Ari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Line 10"/>
          <p:cNvSpPr/>
          <p:nvPr/>
        </p:nvSpPr>
        <p:spPr>
          <a:xfrm>
            <a:off x="0" y="629604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0" y="251460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664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6120" indent="-33768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9560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3"/>
          </p:nvPr>
        </p:nvSpPr>
        <p:spPr>
          <a:xfrm>
            <a:off x="8457840" y="-3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11D5-D06B-4CA8-817C-B40C5F454E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4"/>
          </p:nvPr>
        </p:nvSpPr>
        <p:spPr>
          <a:xfrm>
            <a:off x="685800" y="61718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800" spc="-1" strike="noStrike">
                <a:solidFill>
                  <a:srgbClr val="b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51D5-EB47-4209-8306-78859EC254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OMPETITION IS </a:t>
            </a: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EVERYWHERE</a:t>
            </a:r>
            <a:endParaRPr b="1" lang="en-US" sz="40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7-1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ing on Market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7-2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ing for Competitive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7-3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ng for Market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7-4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about the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152280" y="15228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PTER</a:t>
            </a:r>
            <a:br>
              <a:rPr sz="32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C1F8-9A3E-4613-9648-EA135DDD94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Views on Competition 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 Segment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se businesses that have products appealing to their selected market seg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ss Marke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ry business competing in the market is a competi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E730-C756-491E-ABB6-6E78469950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gmentation Categori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eograph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based on where they l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4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 (Lg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ip Code (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4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idea that people who live in the same area have similar needs and want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mograph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age, gender, race, income, educational leve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2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3937-D4BC-4E9A-855B-A1ADC1162D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24"/>
          <p:cNvGrpSpPr/>
          <p:nvPr/>
        </p:nvGrpSpPr>
        <p:grpSpPr>
          <a:xfrm>
            <a:off x="1019160" y="1865160"/>
            <a:ext cx="7086600" cy="4329360"/>
            <a:chOff x="1019160" y="1865160"/>
            <a:chExt cx="7086600" cy="4329360"/>
          </a:xfrm>
        </p:grpSpPr>
        <p:pic>
          <p:nvPicPr>
            <p:cNvPr id="156" name="Picture 16" descr=""/>
            <p:cNvPicPr/>
            <p:nvPr/>
          </p:nvPicPr>
          <p:blipFill>
            <a:blip r:embed="rId1"/>
            <a:srcRect l="0" t="0" r="3704" b="1424"/>
            <a:stretch/>
          </p:blipFill>
          <p:spPr>
            <a:xfrm>
              <a:off x="1019160" y="1865160"/>
              <a:ext cx="7086600" cy="43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22"/>
            <p:cNvSpPr/>
            <p:nvPr/>
          </p:nvSpPr>
          <p:spPr>
            <a:xfrm>
              <a:off x="1938240" y="2909880"/>
              <a:ext cx="6019920" cy="190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emographic Characteristics of Education and Incom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pic>
        <p:nvPicPr>
          <p:cNvPr id="159" name="Picture 17" descr=""/>
          <p:cNvPicPr/>
          <p:nvPr/>
        </p:nvPicPr>
        <p:blipFill>
          <a:blip r:embed="rId2"/>
          <a:srcRect l="77627" t="0" r="3688" b="1375"/>
          <a:stretch/>
        </p:blipFill>
        <p:spPr>
          <a:xfrm>
            <a:off x="6732720" y="1863720"/>
            <a:ext cx="1374480" cy="433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"/>
          <p:cNvPicPr/>
          <p:nvPr/>
        </p:nvPicPr>
        <p:blipFill>
          <a:blip r:embed="rId3"/>
          <a:srcRect l="61345" t="0" r="22326" b="1375"/>
          <a:stretch/>
        </p:blipFill>
        <p:spPr>
          <a:xfrm>
            <a:off x="5533920" y="1863720"/>
            <a:ext cx="1201680" cy="433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"/>
          <p:cNvPicPr/>
          <p:nvPr/>
        </p:nvPicPr>
        <p:blipFill>
          <a:blip r:embed="rId4"/>
          <a:srcRect l="44960" t="0" r="38711" b="1375"/>
          <a:stretch/>
        </p:blipFill>
        <p:spPr>
          <a:xfrm>
            <a:off x="4327560" y="1863720"/>
            <a:ext cx="1201680" cy="433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"/>
          <p:cNvPicPr/>
          <p:nvPr/>
        </p:nvPicPr>
        <p:blipFill>
          <a:blip r:embed="rId5"/>
          <a:srcRect l="28880" t="0" r="54894" b="1375"/>
          <a:stretch/>
        </p:blipFill>
        <p:spPr>
          <a:xfrm>
            <a:off x="3144960" y="1863720"/>
            <a:ext cx="1193760" cy="4330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1" descr=""/>
          <p:cNvPicPr/>
          <p:nvPr/>
        </p:nvPicPr>
        <p:blipFill>
          <a:blip r:embed="rId6"/>
          <a:srcRect l="12598" t="0" r="70970" b="1375"/>
          <a:stretch/>
        </p:blipFill>
        <p:spPr>
          <a:xfrm>
            <a:off x="1946160" y="1863720"/>
            <a:ext cx="1209960" cy="433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9D20-1945-4CA3-81AE-750097C168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gmentation Categori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sychograph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interests/valu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1572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style ch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1572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Stores, Coffee Shops, etc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88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000000"/>
                </a:solidFill>
                <a:uFillTx/>
                <a:latin typeface="Arial"/>
              </a:rPr>
              <a:t>Product Usage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requency/quantit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1572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ne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15720">
              <a:spcBef>
                <a:spcPts val="4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tel Stay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usiness/Final Consum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E437-E32E-41E0-83DE-1E18835CD4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gmentation Categori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nefit Expect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s expected from use of a particular product or servi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341280">
              <a:spcBef>
                <a:spcPts val="4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 Segm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41280">
              <a:spcBef>
                <a:spcPts val="34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s consumers into groups depending on benefits they expect or require from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D3E4-4888-42C4-9AAE-72FBE35531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dentifying and Analyzing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Opportun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is an identified market with excellent potential based on careful rese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35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Possible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ng Market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9820-1A8D-4588-BD6B-766D4BF08D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dentifying Possible Segment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market or product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basis for segmenting the mark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information for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egments that exist in the mark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arket information to choose the markets that present greatest &amp; least amt of potent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3A7B-311F-4B52-8725-5D3AAE563A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etermining Market Potential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otenti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in the product or service and other mix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available to make the purc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communicate with and distribute product to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1940-BAD9-4BDC-9A14-1D10EB5741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Potential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Potenti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is the total revenue that can be obtained from the market seg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A3D0-09DD-4659-9E17-C787103064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har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Sh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is the portion of the total market potential that each company expects to get in relation to its competito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1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3646-C714-4E40-9B9E-6A9125DD15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0" t="0" r="2457" b="0"/>
          <a:stretch/>
        </p:blipFill>
        <p:spPr>
          <a:xfrm>
            <a:off x="5029200" y="609480"/>
            <a:ext cx="3632040" cy="720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 rot="16200000">
            <a:off x="-897480" y="4735440"/>
            <a:ext cx="29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rtesy of PJ Madison’s. Used with permis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410080" y="1371600"/>
            <a:ext cx="3581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5302"/>
                </a:solidFill>
                <a:latin typeface="Arial"/>
              </a:rPr>
              <a:t>Focus Ques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ways is PJ Madison’s trying to suggest its ice cream is different and better than other bran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ypes of consumers do you believe will be attracted to the advertise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your view, is the ad effective at encouraging customers to try PJ Madison’s ice cream? 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rcRect l="0" t="1371" r="1815" b="4107"/>
          <a:stretch/>
        </p:blipFill>
        <p:spPr>
          <a:xfrm>
            <a:off x="0" y="11160"/>
            <a:ext cx="5257800" cy="684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D0F4-2856-45DD-9719-39333AB2FF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OSITIONING FOR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MPETITIVE ADVANTAG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plain the various bases for positioning a product to distinguish it from the competition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scribe the three common positioning strateg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000C-EA6E-473D-A06A-CCBE5C0497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asis for Position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Pos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refers to the unique image of a product or service in a consumer’s mind relative to similar competitive offering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E35B-23DF-4D24-A697-E7C5160DA3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asis for Position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tribu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highlight product fea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thpas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tening featur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ice &amp; Qual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price = quality (Mercedes Ben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price = value (Wal-M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AEAC-E9E1-45C0-931D-7D44DC6743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asis for Position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se or Appli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Unique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&amp; Hammer – Baking or Deodoriz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duct Us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Type of Person(ality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 Apparel – Professional 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si Generation – Young Activ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ney – Family Oriented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B610-CA82-42C7-873F-B635523D95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asis for Position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duct Classifi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categ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lnSpc>
                <a:spcPct val="9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trak - service/schedule of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lnSpc>
                <a:spcPct val="90000"/>
              </a:lnSpc>
              <a:spcBef>
                <a:spcPts val="85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k - ‘the other white meat’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poultry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mpetit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compared to compet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lnSpc>
                <a:spcPct val="9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s - ranked next to th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lnSpc>
                <a:spcPct val="9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Up - the ‘uncola’ comparing to co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F9C3-97CF-4B9F-9F69-8E718B6AF8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83"/>
          <p:cNvSpPr/>
          <p:nvPr/>
        </p:nvSpPr>
        <p:spPr>
          <a:xfrm>
            <a:off x="685800" y="2286000"/>
            <a:ext cx="8001000" cy="609480"/>
          </a:xfrm>
          <a:prstGeom prst="rect">
            <a:avLst/>
          </a:prstGeom>
          <a:solidFill>
            <a:srgbClr val="ffe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7"/>
          <p:cNvSpPr/>
          <p:nvPr/>
        </p:nvSpPr>
        <p:spPr>
          <a:xfrm>
            <a:off x="685800" y="3565440"/>
            <a:ext cx="8001000" cy="609840"/>
          </a:xfrm>
          <a:prstGeom prst="rect">
            <a:avLst/>
          </a:prstGeom>
          <a:solidFill>
            <a:srgbClr val="ffe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8"/>
          <p:cNvSpPr/>
          <p:nvPr/>
        </p:nvSpPr>
        <p:spPr>
          <a:xfrm>
            <a:off x="685800" y="4844880"/>
            <a:ext cx="8001000" cy="609840"/>
          </a:xfrm>
          <a:prstGeom prst="rect">
            <a:avLst/>
          </a:prstGeom>
          <a:solidFill>
            <a:srgbClr val="ffe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9"/>
          <p:cNvSpPr/>
          <p:nvPr/>
        </p:nvSpPr>
        <p:spPr>
          <a:xfrm>
            <a:off x="685800" y="2925720"/>
            <a:ext cx="8001000" cy="609480"/>
          </a:xfrm>
          <a:prstGeom prst="rect">
            <a:avLst/>
          </a:prstGeom>
          <a:solidFill>
            <a:srgbClr val="d0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0"/>
          <p:cNvSpPr/>
          <p:nvPr/>
        </p:nvSpPr>
        <p:spPr>
          <a:xfrm>
            <a:off x="685800" y="4205160"/>
            <a:ext cx="8001000" cy="609840"/>
          </a:xfrm>
          <a:prstGeom prst="rect">
            <a:avLst/>
          </a:prstGeom>
          <a:solidFill>
            <a:srgbClr val="d0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1"/>
          <p:cNvSpPr/>
          <p:nvPr/>
        </p:nvSpPr>
        <p:spPr>
          <a:xfrm>
            <a:off x="685800" y="5486400"/>
            <a:ext cx="8001000" cy="609480"/>
          </a:xfrm>
          <a:prstGeom prst="rect">
            <a:avLst/>
          </a:prstGeom>
          <a:solidFill>
            <a:srgbClr val="d0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905120"/>
          <a:ext cx="8001000" cy="4206600"/>
        </p:xfrm>
        <a:graphic>
          <a:graphicData uri="http://schemas.openxmlformats.org/drawingml/2006/table">
            <a:tbl>
              <a:tblPr/>
              <a:tblGrid>
                <a:gridCol w="2057400"/>
                <a:gridCol w="2971800"/>
                <a:gridCol w="2971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7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dry Produc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7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dry Produc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7ebd"/>
                    </a:solidFill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ns quickly and eas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s fresh sc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and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price, good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price for highest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or 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as pre-wash on tough st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for hand-washing del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maker’s reliable fri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generation’s disco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y Olympic athl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y professional laund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s out dirt Product B ca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tler on clothing than Produc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Pos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F62A-9C26-4256-9A2D-0D295F7BC9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lecting a Positioning Strateg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ing strategies outli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a company is going to present its product to the consum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it will compete in the marketplace with other businesses offering similar produ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1155-F2F2-4AAC-BEDF-A7669C6DF7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lecting a Positioning Strateg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sumer Percep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are the images consumers have of competing goods and services in the marketpla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eal to desires and perceptions of their target mar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8BF8-173B-40E4-A115-697A592D97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lecting a Positioning Strateg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mpe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perception they have of company and produ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ally - they perceive the product as superior to competitors’ bas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the marketed attrib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a Wars – Promotional batt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9FF0-626F-4006-BCFC-998264DEB5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lecting a Positioning Strateg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usiness Environ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watch changes in B.E. that may affect the position of their produ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oducts Entering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Consumer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Publ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7B74-A458-411C-B05B-016E11D5C7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FOCUSING ON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markets can be segmented by geographic location, demographic characteristics, psychographics, product usage, and benefits deriv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o evaluate market potential and calculate market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79F1-9052-4545-89E6-DCED76431F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MPETING FOR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 direct vs. indirect competition and price vs. non-price competition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the benefits of competition to consum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DD35-0914-4E19-BD1E-FAABBF553A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 for Positioning Decision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usinesses must be able 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4128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and reach a market segment that has a need for their produ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4128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itself effectively against its competito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EF12-9EB6-4B2D-A18E-3079BDCAA4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irect vs. Indirect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rect Compe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competition in a market with businesses that offer the same type of produ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els competing for traveling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letic Apparel (Nike, Adidas, Reeb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ood Chains (McDonalds vs. B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 Theatres (Warrington vs. Regal Ba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 Rentals  (Red Box vs. On-Deman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EFF3-0EFA-4D61-8ECD-894F612FEF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irect vs. Indirect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direct Compe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eting with companies offering products that are not in the same product category but that satisfy similar customer n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78600" indent="-33300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letics vs. Professional Wear (Nike vs. G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78600" indent="-33300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ood Chains vs. Grocery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78600" indent="-33300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 Theaters vs. Video Rentals vs. Ice Skating vs. all other forms of entertainment cho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7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B92B-40AC-418C-AB71-6AAD10AC81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rice vs. Non-Price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ice Compe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Rivalry among businesses based on price / valu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cery 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aurant Spec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rf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82C5-190E-4102-AEF6-E55F954F01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rice vs. Non-Price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n-Price Competi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when businesses emphasize factors of  marketing mix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ther than pri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33984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33984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nd 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33984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33984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A2A3-9D53-41B7-B219-9D31703528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f7ebd"/>
                </a:solidFill>
                <a:latin typeface="Arial"/>
              </a:rPr>
              <a:t>Reasons for </a:t>
            </a:r>
            <a:br>
              <a:rPr sz="3800"/>
            </a:br>
            <a:r>
              <a:rPr b="1" lang="en-US" sz="3800" spc="-1" strike="noStrike">
                <a:solidFill>
                  <a:srgbClr val="3f7ebd"/>
                </a:solidFill>
                <a:latin typeface="Arial"/>
              </a:rPr>
              <a:t>Non-Price Competition</a:t>
            </a:r>
            <a:endParaRPr b="1" lang="en-US" sz="38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not have control of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2256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urance Companies (Gov. Regulated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2256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: Easy Application, Personalized Services, Prompt Claims Service, etc.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might be higher than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2256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Business vs. Large (Wal-Mar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2256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: Individualized attention, delivery, set-up, after sale service, business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ADEC-806E-4A24-9562-E50D3145A6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f7ebd"/>
                </a:solidFill>
                <a:uFillTx/>
                <a:latin typeface="Arial"/>
              </a:rPr>
              <a:t>Consumer</a:t>
            </a: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 Benefits of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24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mer receives the best price for products.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Most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Cheapest Price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on encourage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mprovem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products with the addition of unique features and benefit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Stand Out, Be Distin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562B-2061-45F5-8B10-292AFE5BC6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enefits of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inesses are always looking for new and improved products to match their competi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on offers consumers the benefit of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ide varie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products from which to cho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F0FA-34FC-4ABB-B148-85416FA65B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LEARNING ABOUT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HE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 the types of information businesses need to know about their competito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e the kinds of activities businesses engage in to gain marketing intellig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05A2-941B-43C2-B47F-712505B66D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es must direct their efforts and resources toward marketing strategies which compete f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les Doll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tom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Sh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CF11-DF90-4444-BE1E-EBD7AAC915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cing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competitors planning s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y raising/lowering pri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y adding new fea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new op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new servi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1F17-4DD0-4182-94D6-DBC87FF4D7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tribution Dec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ility/Location conveni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re large quant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re large se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le online &amp; in sto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A542-6146-4422-8992-C6E3E54031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/Service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products being offer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 to anticipate new produ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ually results in at least a temporary shift in purchases during the introduction st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312A-EE96-4EE4-B013-DB48BA159F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motional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d quickly if need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bs consumer atten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l-timed can have direct impact on business sales &amp; competi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EDCF-D305-4C8F-9310-89D9F1EE8C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etitor’s Market 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the competi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 their strengths / weakne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able to anticipate their 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e for their 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3D1E-4F39-4DA0-B9A0-C14429274A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ing Intelli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process of gaining competitive marketing informa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9CE4-D31D-4FF9-A277-C3C0B9C6BF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formation Sourc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lespeople &amp; other employ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ors’ product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icles, research reports, and public inform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fessional &amp; trade pub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29FD-7C34-4FCE-9B1A-2AAA79B59E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formation Sourc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tomers &amp; customer rec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rade sh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5720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hibitions where companies associated with an industry gather to showcase their produ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9EDF-602A-456A-96A3-CB0A1074D8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formation Sourc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g companies - staff responsible for working with marketing intellig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lnSpc>
                <a:spcPct val="8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strengths/weaknesses of key competi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lnSpc>
                <a:spcPct val="8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ss their current marketing strateg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lnSpc>
                <a:spcPct val="8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dict their future 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02F3-C6F8-45AC-8F10-C87D2D1E69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f7ebd"/>
                </a:solidFill>
                <a:uFillTx/>
                <a:latin typeface="Arial"/>
              </a:rPr>
              <a:t>Un-Ethical Behavior</a:t>
            </a: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 Behind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aining information under false pretenses or misleading inf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ing restricted da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mpster diving – illeg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bing employees – illeg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2688-218F-447A-B6C9-C8A3B26578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Segment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a group of individuals or organizations within a larger market that share one or more important characteristic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A749-E76C-47F0-B1F1-0806795C2C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f7ebd"/>
                </a:solidFill>
                <a:uFillTx/>
                <a:latin typeface="Arial"/>
              </a:rPr>
              <a:t>Protecting Yourself</a:t>
            </a: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nies should clearly communicate their expectations about confidentiality of information to employees, suppliers and customer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de guidelines in ‘Code of Ethics’ about sharing and using inform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9F99-4965-4CE4-BDF2-80A0E6A408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Segmentation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process of dividing a large group of consumers into subgroups based on specific characteristics and common nee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0817-84C5-4F88-AAC3-C58BF984B8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enefits of Segment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businesses are unwilling to spend extra time and $$ on market segment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they use Mass Market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ss Marke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directs company’s marketing mix at a large heterogeneous group of consumer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5684-ABB9-4823-AC46-3572DD46C6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Advantages vs. Disadvantag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 Segment Advan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likely to meet the needs of target mar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 Segment Disadvan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s more time to gather and analyze the information to seg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588B-E293-42EA-A5DD-A7F4BF09C5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Advantages vs. Disadvantag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ss Marketing Adavan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r potential sales volume and efficiencies of scale in larger mark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ss Marketing Disadvan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 more difficult because you are trying to appeal to diverse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1:10:53Z</dcterms:created>
  <dc:creator/>
  <dc:description/>
  <dc:language>en-US</dc:language>
  <cp:lastModifiedBy>jsundlin</cp:lastModifiedBy>
  <dcterms:modified xsi:type="dcterms:W3CDTF">2012-01-09T16:42:55Z</dcterms:modified>
  <cp:revision>50</cp:revision>
  <dc:subject/>
  <dc:title>COMPETITION IS  EVERYWHERE</dc:title>
</cp:coreProperties>
</file>